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F18601-21EC-4CAC-A817-0C423969FE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581587-AD13-4BBC-A959-BD6AEF95C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B19B29-A403-4C16-8276-7FFDBBC383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itments are often made when little is know about a proje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If you can’t plan early, plan often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Humphr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plan is a snapshot of what needs to be d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d on what you know at the ti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uld be revisited when new information is gain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justments can be made if early warning is giv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tent is not to continuously reset the end dates, but to continuously reexamine the amount of work left to do to reach the end d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SP development strategy encoura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 builds or cyc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ing ah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4798C2-2956-46D5-99BD-70C3A0181ED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5920" cy="20444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B62288-1146-47D1-BFCB-1AF7C272F6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066680" y="4528800"/>
            <a:ext cx="467064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244048F-D203-4C2F-9E0A-6FBF677933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E1B51B-9F53-49B9-8DBC-E9C75748FC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29BDBA-C465-4294-AD0E-BD12574CF9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AU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324DCA-39EE-43D7-A2C9-22CF8F004B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992240" y="639720"/>
            <a:ext cx="2660760" cy="19954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CD227F-7FBC-488E-B515-73EA1FFADE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6320" cy="2082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7A3C-F23F-4B63-89CA-DBCC3E2327E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1463-572B-4BF3-AE60-B7FE02BA310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368-E8F5-434C-A335-880633131FB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ECC8-439F-4434-83E9-E74D1494C97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7E46-2D8A-41AA-BF6D-9981F1DE50F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569D-6151-4212-BA3B-A7CCEA92C34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EF61-D1C8-4F3D-82E3-FBCA22B560D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692D-1BBF-438C-A20A-5AFE859B481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D28B-D616-412D-9870-600A12ADDFB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030A-A495-47FB-992F-CB69E3B908E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BFB9-D33A-409D-8627-78E246398C3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EED9-8475-45D7-984B-95FD16C56C7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6F97-5B0C-41D5-A013-267F3BF616E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B297-7333-4562-90BE-0F3C205F221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5FDB-9176-4E23-8E0D-7E78A4D86FB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4BCF-0914-4CD7-B241-C6B43E363DC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I - Using the PSP - </a:t>
            </a:r>
            <a:fld id="{17E8A9E9-C9EE-4E79-B73D-083061FD01E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104148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Using the PS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the TSP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establishes an environment that builds, develops, uses, and supports self-directed team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lf-directed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s its own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its own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s on its own developmen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s its own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s its own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, manages, and controls its ow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directed teams are jelled teams and they do the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will agree to you and your team mates working as a self-directed team as long as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ve to meet thei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ly report o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ince them that your plans are so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d to changing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e to them for help when you need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is is not hard for you to do, it t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ipline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ance and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Needed Skill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hows you how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manage your personal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data to make sound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the quality of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quality products on predictable sche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TSP, you use these skills to convince management to support self-directed team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launch starts you on this r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Structure and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060560" y="1634760"/>
            <a:ext cx="38210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SP launch kicks off each major project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builds a common understanding of the work and the way to do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mbers produce plans to guide thei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equent phases kick off with a TSP relaun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4" descr="S13"/>
          <p:cNvPicPr/>
          <p:nvPr/>
        </p:nvPicPr>
        <p:blipFill>
          <a:blip r:embed="rId1"/>
          <a:stretch/>
        </p:blipFill>
        <p:spPr>
          <a:xfrm>
            <a:off x="5381640" y="1690560"/>
            <a:ext cx="32558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launch is a four-day workshop involving the team and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and all team members particip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unch workshop is not a course; it is part of the projec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 workshops are planned and track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launch performs essential ta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the launch, these tasks are not generally addressed until well into the project, if th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it is often too late to prevent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late-discovered problems usually cause d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unch workshop accelerates team building.  It b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mon understanding of the jo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eement on how to do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itment to a team pl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support for 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ducts needed to get managemen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192888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71360" y="1538280"/>
            <a:ext cx="1835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usiness nee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ment go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duct requir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241200" y="4527720"/>
            <a:ext cx="146700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am go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ceptual desig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nned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ze estima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162240" y="4527720"/>
            <a:ext cx="15940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sk hour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chedule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arned-value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9"/>
          <p:cNvSpPr/>
          <p:nvPr/>
        </p:nvSpPr>
        <p:spPr>
          <a:xfrm>
            <a:off x="1714680" y="4527720"/>
            <a:ext cx="1593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am strate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am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0"/>
          <p:cNvSpPr/>
          <p:nvPr/>
        </p:nvSpPr>
        <p:spPr>
          <a:xfrm>
            <a:off x="4635360" y="4527720"/>
            <a:ext cx="15940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eam ro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sk pl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ailed pl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1"/>
          <p:cNvSpPr/>
          <p:nvPr/>
        </p:nvSpPr>
        <p:spPr>
          <a:xfrm>
            <a:off x="6083280" y="4527720"/>
            <a:ext cx="15955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Quality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2"/>
          <p:cNvSpPr/>
          <p:nvPr/>
        </p:nvSpPr>
        <p:spPr>
          <a:xfrm>
            <a:off x="7542360" y="4527720"/>
            <a:ext cx="137772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sk eval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isk mitigation pl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lternate pl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3" descr="S16"/>
          <p:cNvPicPr/>
          <p:nvPr/>
        </p:nvPicPr>
        <p:blipFill>
          <a:blip r:embed="rId1"/>
          <a:stretch/>
        </p:blipFill>
        <p:spPr>
          <a:xfrm>
            <a:off x="279360" y="2703600"/>
            <a:ext cx="858348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42760" y="876240"/>
            <a:ext cx="7707240" cy="6336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Process Mee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39500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318564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501444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78276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7" descr="S17"/>
          <p:cNvPicPr/>
          <p:nvPr/>
        </p:nvPicPr>
        <p:blipFill>
          <a:blip r:embed="rId1"/>
          <a:stretch/>
        </p:blipFill>
        <p:spPr>
          <a:xfrm>
            <a:off x="1090440" y="2098800"/>
            <a:ext cx="6963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ing 1 provides the developers the information they need to produce their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ing 1 is typically led by the TSP c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genda is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sor: opening com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 and attendee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: review of meeting objectives and 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management: project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ing/customer: project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nd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 Strategy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usually describes the needed products and sched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this “solution” is usually aggressive, it only represents one possible way to do the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must understand management’s true needs to address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even imply that you think management’s objectives are unreal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attitude should be: “If that is what management wants,  we will do our utmost to do it.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76240" y="874440"/>
            <a:ext cx="8267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80560" y="1465200"/>
            <a:ext cx="755964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on a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TS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unching a TSP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on a TSP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ding com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 Strategy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1, the team should ask enough questions to understand what management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s 2 through 8, the team will strive to produce a plan that meets these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the team, the team leader, and the TSP coach attend  these meet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in meeting 9, the team will meet with management and other invited parties to review the team’s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ing 2 has two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obtain agreement on the team’s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stablish the team membe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typically leads the team through the goals discussion, with help from the TSP c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tart with management’s stated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you review the implied but unstated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, you agree on the team’s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, you define goal meas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agree on the goals, the team leader and coach guide the team through team role sele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Ro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roles establish responsibilities for team ope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velopment rol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 interface manager – focal point for requirements and customer-related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manager – establishes design standards and guides the desig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manager – defines the implementation standards and handles implementation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manager – ensures that test issues are properly considered and handles test planning and coord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Ro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support roles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manager – helps the team maintain, track, and report on the plan and plan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manager – guides the process definition work, handles PIPs, and monitors process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anager – reviews process and product quality and monitors team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manager – ensures that proper support tools and aids are available and handles support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assigns additional roles for security, safety, usability, and so forth if they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am Leader 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typically does not take any team ro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’s responsibiliti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team leadership – sustain motivation, prioritize the work, guide team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team communication – run weekly meetings and communicate management needs and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ain resources – get needed staffing and protect team members from non-project de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to management – inform management about team progress and issues and get help when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any but very small teams, the team leader does not have time to do much if any developmen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2, the team produces and documents two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each go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on goal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member responsibility for tracking th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the team’s goals with management’s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mber assigned to each team 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additional roles that the team feels are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3, the tea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s the products to be pro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ees on a product conceptual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s a projec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s the developmen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coach’s guid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leads the team in defining its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also leads the team in establishing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sign manager leads the effort to produce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cess manager leads the team in defining i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3, the team produces and documents four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st of the project’s plann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duct conceptual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’s developmen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’s developmen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4, the team develops its top-down plan for the entire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the job lasts 5 weeks or 5 years, the team’s top-down plan covers final product deli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 duration is defined by the duration of the team’s commitmen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five-year project, if the commitment is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phase, the team makes a one-phas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commitment is for five years, the team makes a fiv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ar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4, teams first develop a detailed product size esti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based on their defined process, the team members define the job’s tasks and estimate the time for e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meeting 4, the team often discovers that it cannot meet management’s needs with the available resour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then devises alternate plans with varied mixes of resource, function, and sched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in T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87480" y="1601640"/>
            <a:ext cx="74102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teams are both satisfying and r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many teams come close to meeting their product and business goals, they often do so at the expense of the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something magical about an effective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has an ethic, an attitude, and an energy that permeate everything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eammates support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 intuitively know when and how to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 rally around at just the righ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members are part of a common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9720" indent="-181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y have a sense of belonging and a feeling of camaraderi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Introduction to the TEAM Software Proces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Watts Humphr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251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at we call a “jelled tea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4, the team produces the following prod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size 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-hour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chedul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arned-valu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r more alternate plans if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Size Estim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1017720" y="3413160"/>
            <a:ext cx="3630600" cy="118584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17360" y="1743120"/>
            <a:ext cx="7172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teams typically document their size estimates in a TSP support t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ze estimates look lik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Task and Resourc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44360" y="1557360"/>
            <a:ext cx="762156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 list includes the product assembly, process phase, task, team assignment, estimated size, and development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641520" y="2716200"/>
            <a:ext cx="80229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5, the team makes its quality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mbers estimate the defects injected from historical defect-injection rates and planned phase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lso use historical yield data to estimate defects removed by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discusses and agrees on the quality management strategy and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5 product is a quality plan with delivered product defects and projected defects injected and removed by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304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the quality plan, the team enters defect-injection and yield data and the TSP support tool calculates the defects injected and removed by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5187960" y="1709640"/>
            <a:ext cx="2855880" cy="2219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5" descr=""/>
          <p:cNvPicPr/>
          <p:nvPr/>
        </p:nvPicPr>
        <p:blipFill>
          <a:blip r:embed="rId2"/>
          <a:stretch/>
        </p:blipFill>
        <p:spPr>
          <a:xfrm>
            <a:off x="987480" y="2973240"/>
            <a:ext cx="38606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6, the team members make personal plans for the next plan period – typically three to five mon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planning manager leads this effort, under the guidance of the TSP c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will handle each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 plans for the assigned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olidated team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reviews the consolidated plan and rebalances team-member workload if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6 products 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d team member pl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solidated overall team plan and alternat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7, the team assesses the plan’s perceived ris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isk may or may not happen while an issue is certain to happ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decides which risks to track and manage and what mitigation plans are nee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product is a list of the risks with ea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d on likelih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d on seve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ed to a team member for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eeting 8, the team prepares its meeting 9 plan presentation to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ypical meeting 9 agenda is as follow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brief summary of the meeting 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view of the laun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of the team’s and management’s goal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member rol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velopment strategy an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an and principal alternat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sk evaluation and miti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nd discu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 Strate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leader typically presents the plan with team members participating as the team choo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o provide summary plan information but to also have the details available if reques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ducts of meeting 8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s for the meeting 9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out copies of the plan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kely management questions and the team’s agre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ist of the help needed from management to impl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Meeting 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, team leader, coach, management, and invited visitors attend meeting 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purpose is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team’s plan to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swer management’s ques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management’s approval of the plan or selec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eeded actions, who will take them, and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eting product is typically an approved plan or the actions needed to get approv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management does not agree with any of the plans, they usually decide to reconsider their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lled T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lled teams do the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bjective of the TSP is to build and maintain jelled te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9 Strate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dvisable to start meeting 9 with a statement like:  “We could not precisely meet your requirements but we have developed several alternate plans that we believe come reasonably clos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tells management what to expect and allows them to listen rather than to poke at every potential plan weakn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should explain how the plan was m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ta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ssumptions m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they had to gu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Postmor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unch postmortem is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olidate the plan and launch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the launch process and produce P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 open issues and agree on how to handle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nal launch step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responsibility for the project notebook (ofte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manag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responsibility for handling the P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 launch data in the project note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the launch data to the S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on a TSP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management support to launch a TSP team, you need to keep that sup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quires that you and your teammates do five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the process you have def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the individual and team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product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ly track and report your prog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ally demonstrate high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ing the Proces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though you defined the process yourself, it will likely be a challenge to follow it consist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ing time, size, and defect data takes little time but is easy to forg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do forget, just enter your best esti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good time, size, and defect data, you cannot precisely manage the project schedule or product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y demonstrates that, without precise management, software projects usually fai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ing the Proces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key to following the process is to recognize that the longer you do it, the better you will get at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most exciting is that, as your process fidelity improves, so will your job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n turn will impr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pride i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your produ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credibility with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agement values you as an employ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ing th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llenging and dynamic fields like software face constant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we develop products, we learn more about what is needed, how to build it, and how to improve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incorporate this continual learning, we must update our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old plan copies, but don’t hesitate to change th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don’t, you will not be able to track and report on the 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Product 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data provide a wealth of information that help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the quality of your work as you do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and improve the quality of each process st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the quality of your products as you build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ich products have marginal quality and shou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rewor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useful quality measures are yield, A/FR, review rates, defects/size, and PQ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ect Data by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PSP data, TSP tools can display lots of useful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xample is the  percentage of actual or planned defects injected by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is the defect distribution removed by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1"/>
          <p:cNvGrpSpPr/>
          <p:nvPr/>
        </p:nvGrpSpPr>
        <p:grpSpPr>
          <a:xfrm>
            <a:off x="4649760" y="1566720"/>
            <a:ext cx="4441680" cy="4911840"/>
            <a:chOff x="4649760" y="1566720"/>
            <a:chExt cx="4441680" cy="4911840"/>
          </a:xfrm>
        </p:grpSpPr>
        <p:pic>
          <p:nvPicPr>
            <p:cNvPr id="545" name="Picture 12" descr=""/>
            <p:cNvPicPr/>
            <p:nvPr/>
          </p:nvPicPr>
          <p:blipFill>
            <a:blip r:embed="rId1"/>
            <a:stretch/>
          </p:blipFill>
          <p:spPr>
            <a:xfrm>
              <a:off x="4649760" y="1566720"/>
              <a:ext cx="4441680" cy="24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3" descr=""/>
            <p:cNvPicPr/>
            <p:nvPr/>
          </p:nvPicPr>
          <p:blipFill>
            <a:blip r:embed="rId2"/>
            <a:stretch/>
          </p:blipFill>
          <p:spPr>
            <a:xfrm>
              <a:off x="4649760" y="4027320"/>
              <a:ext cx="4441680" cy="245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ed TSP Quality Pro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1" descr="S48"/>
          <p:cNvPicPr/>
          <p:nvPr/>
        </p:nvPicPr>
        <p:blipFill>
          <a:blip r:embed="rId1"/>
          <a:stretch/>
        </p:blipFill>
        <p:spPr>
          <a:xfrm>
            <a:off x="160200" y="1735200"/>
            <a:ext cx="87696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king and Reporting 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always have questions and the less they know, the more they a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team falling behin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verybody working har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they meet the next milest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I do to keep them on schedu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I tell senior management about project stat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a self-directed team, you need management’s tru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keep management’s trust, answer these questions before they think to ask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takes data, analysis, and regular repor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Intellectual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o complex and high-quality intellectual work, software professionals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ly understand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he problem an interesting challe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nt to solve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he flexibility to solve the problem their own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developers like to work this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highly rewarding to work on a team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s common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 cooperatively to meet its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rogress Indic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0768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working hours per week is often an early sign that the team is falling behind and needs management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798480" y="2379600"/>
            <a:ext cx="755028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ekly Team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25120" y="1665360"/>
            <a:ext cx="7767720" cy="19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teams review their status, progress, and plans every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summary report provides all the data needed to precisely determine project status and rate of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ata provide the information you need for management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542880" y="3774960"/>
            <a:ext cx="803448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work is satisfying, profitable, and fun but it is also invisi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most development organizations use crisis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typically work on the crises and ignore everything el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TSP, you will rarely have crises and never have schedule surpri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less you regularly advertise your successes, your work will not be noticed and you will lose management sup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complet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SP for Engine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urse, you are qualified to be a TSP team memb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y also train to be an authorized PSP instructor and TSP co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Instructor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SP Instructor Trai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urse teaches you to teach the PSP and TSP cour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executive semi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SP management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ersonal process 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 and PSP II engineering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n authorized PSP instructor, you can become licensed to use the SEI course materi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are also required to provide student data and course evaluations for each course you te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 Training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5480" y="1701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y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a written pre-test (open-bo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your PSP student data to the SEI for screening to ensure that you have a basic understanding of the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ious teaching or public speak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the five-day training course at the SEI within eighteen months of completing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SP for Engine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 your PSP data and a case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 a qualification exam (closed-bo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 Training Purpo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5480" y="1716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SP Coach Trai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aches you to coach TSP te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 five-day course taught at the SE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ttend you mus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an SEI-authorized PSP instru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20760" indent="-15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TSP license agreement between your organization and C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qualify as a TSP coach, SEI must observe you successfully launch a TSP t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Cert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915480" y="1716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certified PSP professional, you will have recognized evidence of your professional competence in software engine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ill make you more attractive as a potential employee and add to your professional st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ind out more about the PSP certification process, contact the SE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ding Com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PSP training, you now have the skills and knowledge to do superior software engine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se skills come responsibil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ulfill these responsibilities, it is helpful to consider your personal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ible Profess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045800" y="15807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responsible professional, you need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and learn new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se methods i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your strengths and weak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reas for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, practice,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ize the methods that you find help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from 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ill assure your continuing professional growth and impro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Successful Teams Evol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bility of a team to effectively work together develops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ms generally begin 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lear sense of responsi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gue ideas about the product to be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ying approaches to the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ime, team members may converge on a common understanding of these fac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then can they do their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06200" y="1033200"/>
            <a:ext cx="7815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Do You Want from Software Engineering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17360" y="16236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your personal objectiv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prisingly often, we achieve our objectives in ways that we did not expect, so keep an open mind and keep loo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we all reach the same end, we should concentrate on the rou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can occasionally achieve excellence, it could be well worth the tri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ments of Team Me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988920" y="162360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skilled members are essential, technical skills alone are not enou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performance teamwork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inter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0840" indent="-164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shared commi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work this way, the team members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ersonally discipl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ir own a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realistic commi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TS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is a framework and a process structure for building and guiding engineering te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SP cont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buil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cess that builds shared goals, commitments, and cohe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wor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cess that guides the team’s  engineering processes and practi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erequisite for TSP teams is mastery of the software engineering and process skills taught in the PSP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7400" y="853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Effective Teams with the TS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0" descr="S9"/>
          <p:cNvPicPr/>
          <p:nvPr/>
        </p:nvPicPr>
        <p:blipFill>
          <a:blip r:embed="rId1"/>
          <a:stretch/>
        </p:blipFill>
        <p:spPr>
          <a:xfrm>
            <a:off x="655560" y="1538280"/>
            <a:ext cx="8099640" cy="507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11Z</dcterms:modified>
  <cp:revision>145</cp:revision>
  <dc:subject/>
  <dc:title>No Slide Title</dc:title>
</cp:coreProperties>
</file>